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Microsoft Sans Serif"/>
              </a:rPr>
              <a:t>Click to move the slide</a:t>
            </a:r>
            <a:endParaRPr b="0" lang="en-US" sz="60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2AEB-948B-41C0-BC7A-A111FD9A9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Q4L14 ques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from last les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gdom had been divided between David and Ishbosh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Ishbosheth is murdered and taken out of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f his own servants slew him, and brought his head to David v. 1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, instead of rewarding them, put them to death for what they had done v. 9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shbosheth out of the picture, there is now a good time for the kingdom to un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 Tyre.  This where the king of Tyre resided and ru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row shows the distance from Tyre to Jerusalem, where the materials for David’s house was 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ps shows the sweep from Gibeon to Gez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am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ders of all the tribes of Israel come and anoint David king over all Israel, v. 1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952880"/>
            <a:ext cx="6248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h-bosheth the king, and Abner the general, being dead, they had no hope of maintaining a separate kingdom, and therefore they thought it better to submit to David's authority. And they founded their resolution on three good argu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David was their own countryman; "We are thy bone and thy flesh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Even in Saul's time, David had been their general, and he had always led them to victory; "Thou wast he that leddest out and broughtest in Israel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God had appointed him to the kingdom, to govern and protect the people; "The Lord said to thee, Thou shalt feed my people and be a captain over Israel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am 5:6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Jebusites relied upon the unusual natural advantages of their citadel, which stood upon Mount Zion, a mountain shut in by deep valleys on three different sides; so that in their haughty self-security they imagined that they did not even need to employ healthy and powerful warriors to resist the attack made by David, but that the blind and lame would su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o of Jerusalem was probably part of the fortification of the Jebusite city that David captured. It may have been either a solid tower full of earth or a bastion strengthening a weak point in the wall. It was already in existence when David's army captured the Jebusite city (2 Sam 5:9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Nelson's Illustrated Bible Dictionary, Copyright (c)1986, Thomas Nelson Publis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ron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alogue of the worthies and great men of his king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181480"/>
            <a:ext cx="556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Chron 12: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he rest also of Israel were of one heart to make David king-i.e., entertained a unanimous desire for his elev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Acts 2 – the united spirit when people know Jesus as both Lord and “Anointed” (Chris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ron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consults with his officers, and resolves to bring back the ark from the house of Abinadab, v. 1-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lace it on a new cart, and Uzza and Ahio drive the cart; the oxen stumbling, Uzza puts forth his hand to save the ark from falling, and he is struck down by the Lord, v. 5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is displeased, and orders the ark to be carried to the house of Obed-edom the Gittite, v. 11-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k abides there for three months, and the Lord blesses Obed-edom, v.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the area of  Kiriath Jearim from the air and from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loser view from the 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this is where the ark had been for some time during the reign of Sa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David sends for it, but the manner or method of bringing it from here to Jerusalem was outside the authority of the law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arrow shows from the Nile to Lebo-har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led area is what is meant as the general path of the stretch of land to where the call for Israel was 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 the area where the ark had res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ron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am sends artificers and materials to David, to build him a house, v. 1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's wives and children, v. 3-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feats the Philistines in two battles: one in the valley of Rephaim, v. 8-1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other at Gibeon and Gezer, v. 13-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fame goes out into all the surrounding nations, v.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various ways in which God blessed Dav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0E0-D2FC-4DD4-9B86-80C9B81D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DB6-FB23-4F46-8C78-8C77018D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BF1-F6BD-4696-B522-926A8E12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B73-1F91-4C08-ACCE-49080DAE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76EB-01CC-4BD9-9DF6-30040A02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9AC7-E5C2-403F-AE86-99F48FD0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62C8-DC04-45AD-AF46-462642F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BDF1-F519-4988-805D-64AE4F54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FD35-80E7-4E8B-AB1E-F1C90DCB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5186-844C-4E1F-B2DD-6F1F6ACB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E248-0D91-45DD-8BD2-E649D3A7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3B6-C5FF-4B0E-B954-151A40A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2FF3-D1CB-40DC-B9AB-35832F1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8F73-72C1-47A0-8244-443FB11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8512-3029-4D69-9530-FE8A0F21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FDDC-4219-43C5-A546-DF4CFA82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CDD0-8B19-4F78-8C17-97B127DB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357-64A7-4924-AE79-9A2D954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741-8480-4459-BAB5-65345D51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D24-EF81-4006-8E34-E2C6CFAC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F5C-F6A0-4571-9D26-9A052A48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B97-D492-40BD-ADEF-9E09018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89A-C629-4AC8-BB74-DFB11E41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373-54C8-4A6F-BD33-134AA936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Microsoft Sans Serif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Microsoft Sans Serif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FBBD-D0E2-47C2-A6B5-945909AED80E}" type="slidenum">
              <a:rPr b="0" lang="en-US" sz="1400" spc="-1" strike="noStrike">
                <a:solidFill>
                  <a:srgbClr val="ccecff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Microsoft Sans Serif"/>
              </a:rPr>
              <a:t>Click to edit the title text format</a:t>
            </a:r>
            <a:endParaRPr b="0" lang="en-US" sz="60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8F29-962A-43B8-AB92-0897F6271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Microsoft Sans Serif"/>
              </a:rPr>
              <a:t>The United Kingdom</a:t>
            </a:r>
            <a:endParaRPr b="0" lang="en-US" sz="5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Quarter 4, Lesson 15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2 Sam.5:1-16; 1 Chron.11-14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Pages 53-56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ram, king of Tyre sent messengers &amp; carp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137160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vid’s army struck down the Philistine army from Gibeon to Ge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81280" y="4952880"/>
            <a:ext cx="53352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David Anointed King of Israel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At Hebron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A Great Day of Uniting -  2 Sam.5:1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icrosoft Sans Serif"/>
              </a:rPr>
              <a:t>They remembered God’s promise concerning David -  v.2</a:t>
            </a:r>
            <a:endParaRPr b="0" lang="en-US" sz="28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icrosoft Sans Serif"/>
              </a:rPr>
              <a:t>They anointed David King over Israel</a:t>
            </a:r>
            <a:endParaRPr b="0" lang="en-US" sz="2800" spc="-1" strike="noStrike">
              <a:solidFill>
                <a:srgbClr val="ccecff"/>
              </a:solidFill>
              <a:latin typeface="Microsoft Sans Serif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Microsoft Sans Serif"/>
              </a:rPr>
              <a:t>He reigned 7 ½ years in Hebron</a:t>
            </a:r>
            <a:endParaRPr b="0" lang="en-US" sz="2400" spc="-1" strike="noStrike">
              <a:solidFill>
                <a:srgbClr val="ccecff"/>
              </a:solidFill>
              <a:latin typeface="Microsoft Sans Serif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Microsoft Sans Serif"/>
              </a:rPr>
              <a:t>He reigned 33 years in Jerusalem</a:t>
            </a:r>
            <a:endParaRPr b="0" lang="en-US" sz="24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Concerning Jerusalem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David was successful against the inhabiting Jebusites – 5:6f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 stronghold becomes the city of David – v.7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God was with him – v.10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Under David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Mighty warriors united – 1 Chron.11-12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re was singleness of mind – 12:38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re was joy in Israel – 12:40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But, celebration led to his first careless act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icrosoft Sans Serif"/>
              </a:rPr>
              <a:t>The manner of moving the ark</a:t>
            </a:r>
            <a:endParaRPr b="0" lang="en-US" sz="28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The Ark 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Brought from Kiriath-jearim – 13:1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Excellent Motivation: :For we did not seek Him in the days of Saul” – 13:3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Unauthorized method: “on a new cart”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 divine death-blow to Uzzah – 13:9,10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 anger and confusion of David – 13:11-14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83240" y="-50760"/>
            <a:ext cx="51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iriath Jearim from north a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512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5360" y="3301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riath Jearim from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ark had res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808200"/>
            <a:ext cx="9144000" cy="593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762120" y="1828440"/>
            <a:ext cx="3962160" cy="4343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304920"/>
          </a:xfrm>
          <a:custGeom>
            <a:avLst/>
            <a:gdLst>
              <a:gd name="textAreaLeft" fmla="*/ 188280 w 457200"/>
              <a:gd name="textAreaRight" fmla="*/ 268920 w 4572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Israel assembled from Nile to Lebo-hamath – 1 Chron.13: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8552600">
            <a:off x="182160" y="2973600"/>
            <a:ext cx="6159240" cy="2455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819520"/>
            <a:ext cx="2210040" cy="13816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ark was at Kiriath-jea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505320" y="4114800"/>
            <a:ext cx="274320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God’s Blessings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rough King of Tyre, Hiram -14:1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In family at Jerusalem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In defeat of the Philistines – 14:8-16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In the fear and respect he gained among the nations – 14:17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21:47:35Z</dcterms:created>
  <dc:creator>Terry W. Benton</dc:creator>
  <dc:description/>
  <dc:language>en-US</dc:language>
  <cp:lastModifiedBy>Terry W. Benton</cp:lastModifiedBy>
  <dcterms:modified xsi:type="dcterms:W3CDTF">2005-05-21T02:07:31Z</dcterms:modified>
  <cp:revision>5</cp:revision>
  <dc:subject/>
  <dc:title>The United Kingdom</dc:title>
</cp:coreProperties>
</file>